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393-79B6-427C-AB01-AB77F405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6BE-6D56-458F-92B9-5797A044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154-FCB6-4C63-B1C6-0C2D076A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324-6045-418E-A200-C4C6E98A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0424-D6A6-45CE-BAF7-29ED4125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A84D-A491-4DFA-8587-99B1EC04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DD0E-8A81-400B-B0E8-DF022884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7E29-4E1D-4009-B1FD-421E49B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20EA-51D4-42C9-9C7B-D58F7E46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659-4118-416F-AEEF-CA94C11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7207-83D2-415D-A2D3-C780F639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FB1-5D9B-4B95-99B8-1C9915B5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D443-8AA0-4B84-B6C0-8466AD1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517F-734A-4F7E-9147-603DFEC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D10-7C33-4280-AF54-AE98E41C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DE61-0E79-443F-A673-E9C50986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070-54C8-4FB8-885B-2A712AEC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81D-1D10-4796-9197-6F36B068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1A8-6D85-4A43-A177-A2FBDD95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298-36EB-4B82-81BB-EB6700CB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F83-DE4F-44DF-A626-73ADAB78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CE5-40F5-4266-8E25-44F86536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419-F63B-40B1-A691-4267E24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F41-3D72-4EFD-AC9B-61E0C49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D8F9-53EF-42CD-8943-65B04F6D8B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DE94-7C4D-497E-8EAA-D205DCF35E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hyperlink" Target="http://www.csos.jhu.edu/P2000/nnps_model/school/sixtypes/type2.htm" TargetMode="External"/><Relationship Id="rId3" Type="http://schemas.openxmlformats.org/officeDocument/2006/relationships/hyperlink" Target="http://www.csos.jhu.edu/P2000/nnps_model/school/sixtypes/type3.htm" TargetMode="External"/><Relationship Id="rId4" Type="http://schemas.openxmlformats.org/officeDocument/2006/relationships/hyperlink" Target="http://www.csos.jhu.edu/P2000/nnps_model/school/sixtypes/type4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1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3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os.jhu.edu/P2000/nnps_model/school/sixtypes/type4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ix Types of Involvement: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eys to Successful Partnerships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304812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pstein, et. al. 2002.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School, Family, and Community Partnerships: Your Handbook for Ac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Second Edition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. Thousand Oaks, CA: Corwin Press, Inc.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x Types of Involvemen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ommunic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Volunt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Learning at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ng with the Community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aren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families with parenting skills and setting home conditions to support children as students. Also, assist schools to better understand famili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mmunicat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uct effective communications from school-to-home and from home-to-school about school programs and student progre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olunteerin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e volunteers and audiences to support the school and students. Provide volunteer opportunities in various locations and at various tim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earning at Hom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 families with their children on homework and other curriculum-related activities and decis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cision Making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families as participants in school decisions, and develop parent leaders and representativ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llaborating with the Commun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ordinate resources and services from the community for families, students, and the school, and provide services to the communit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7:25:25Z</dcterms:created>
  <dc:creator>Thomas DiPaola</dc:creator>
  <dc:description/>
  <dc:language>en-US</dc:language>
  <cp:lastModifiedBy>Thomas DiPaola</cp:lastModifiedBy>
  <dcterms:modified xsi:type="dcterms:W3CDTF">2009-08-27T18:36:57Z</dcterms:modified>
  <cp:revision>2</cp:revision>
  <dc:subject/>
  <dc:title>Six Types of Involvement: Keys to Successful Partnerships </dc:title>
</cp:coreProperties>
</file>